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E2C-0F1F-4A7F-9E89-A7367B44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0C1-E096-4104-8BF4-DBF1D7E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A8A-7F4E-4C05-8DF2-DB4EB6B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3EA-B783-46DE-B75B-FC837D03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0C1-80D1-4178-AC75-E65F5FA4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32B-06D5-4340-B872-756F3DB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92F-CE5E-4EAC-A252-DB71E56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B37-1844-41C7-89AF-ABC8A3B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856-3C3D-46AF-A3A5-8C9074C2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4B4-6182-472E-B76A-7AC7B1F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B7C-DA73-44AD-BD38-F841303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2D5-B8CB-4DE4-819B-2C271DA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677-0FA7-415B-B9A9-9DCDBAB4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1 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3x - 1/4y = 24 in 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x and y intercep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x - 8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of the line with a slope of -2 and goes through the piont (-4, 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through (4, 9) and (-2, 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lope-intercept form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y) (3, 2) slope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400120" cy="238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6553080" y="3276720"/>
            <a:ext cx="1524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all….</a:t>
            </a:r>
            <a:br>
              <a:rPr sz="3600"/>
            </a:br>
            <a:br>
              <a:rPr sz="1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scribes the steepness of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341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2880" y="2209680"/>
            <a:ext cx="30481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019560" y="2209680"/>
            <a:ext cx="106668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 of the line through the follow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(4, 7)  N (-8, -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(6, 5) S (15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x for the line where m =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5) (x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ce i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inear equation for thi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u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ate of change and write an equation for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-Inter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and y-intercept of the following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2x -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y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becah babysits for a night, she charges a flat fee of $30 plus $4.85 per child.  How could this be exp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int-Sl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of a line with the point (2, -7) and a slope m = -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419720" y="990720"/>
                <a:ext cx="3276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ndard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 + By =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 and y-intercepts of: -3x + 6y =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49:24Z</dcterms:created>
  <dc:creator>Sharon Fieldman</dc:creator>
  <dc:description/>
  <dc:language>en-US</dc:language>
  <cp:lastModifiedBy>Sharon Fieldman</cp:lastModifiedBy>
  <dcterms:modified xsi:type="dcterms:W3CDTF">2010-12-15T19:58:11Z</dcterms:modified>
  <cp:revision>12</cp:revision>
  <dc:subject/>
  <dc:title>Goal 4.01 Linear Functions</dc:title>
</cp:coreProperties>
</file>